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9.jpeg" ContentType="image/jpeg"/>
  <Override PartName="/ppt/media/image33.jpeg" ContentType="image/jpeg"/>
  <Override PartName="/ppt/media/image50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1.png" ContentType="image/png"/>
  <Override PartName="/ppt/media/image37.jpeg" ContentType="image/jpeg"/>
  <Override PartName="/ppt/media/image30.png" ContentType="image/png"/>
  <Override PartName="/ppt/media/image10.png" ContentType="image/png"/>
  <Override PartName="/ppt/media/image35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5.png" ContentType="image/png"/>
  <Override PartName="/ppt/media/image4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dt" idx="13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4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15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6B43227-95DA-41CA-A44A-EA0CAD885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34F-6E09-4B28-AF11-33F6FE77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37A8-E54B-429F-971A-3FFA4719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A9D-FDF7-4C0B-83E0-656BA523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95F-98CA-4539-8170-E5DF935E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B5D2-A70C-4CF4-A15D-2DE62C95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18A6-808E-4F94-9EDA-43C4B55E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2E77-B17B-4AFB-9165-528E938E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BE4C-6FB0-40A8-A25A-0CE48B8C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FA93-DF71-4AF9-8B6B-0A9DD210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0057-826E-46E7-BB91-B8322139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43BE-FEBE-4FC6-953D-7453B368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5D04-CD2A-40CA-9658-B82D41E4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B90D-2C9E-4ED3-A023-24C95F83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745B-4906-4EFA-83F8-4F44B0AE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1AFC-6360-44DC-8A83-89DF1A0D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8025-CBA2-4FC1-912B-BA44C254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3556-8611-4B40-A8DF-C6BF811E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E10B5-0E13-4D93-8B3B-94032092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C47F4-7700-4E57-BF51-698EDC08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7E70C-B883-4E72-946B-706D1613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CC7CB-E0D2-4AE7-B50E-4FE4625F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AFEA1-0EBB-4B1E-8031-8D7BE24B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3FC-EB13-4221-89D1-5E94530A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E95E5-339A-496D-9704-D360A08A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4C706-E567-4C87-AEC4-A7DC3D4A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69005-7F9A-44FB-B51D-0480363D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3BB4D-2D12-4172-967E-CC72CC60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C5832-90DD-4565-972F-67193815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6F2DB-6035-4875-8EA5-37060BC1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54322-BB37-47DA-A219-527F5ECA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67886-1EF9-442A-83CE-BEA47F3D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996B5-CB88-4E30-86C1-A4C289F1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7E6F4-774F-40FB-BF10-FED7B9BC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B6FB-C5F2-45DF-88BF-3E0538E7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D2AE5-2E93-4316-BC19-EDEE8D58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AC878-6011-4655-B202-CC91B780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B4954-4B83-4802-A632-85C70215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F70BD-8331-4C45-A3CF-823C9FE3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4633A-74D6-4B0B-943F-20CAD6A8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A0AE9-81D4-40E3-967F-BD7BC653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9F776-7A1D-4A52-9604-67A96EE6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9155E-28E3-40BF-825A-BA1389B1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9879F-3354-43FB-BC29-0DF120E2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355-5BFA-4270-A847-5C2C2658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E67E-4537-487A-8DE1-58A28C4F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A821-118D-449B-B8C1-72626313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490-8CFE-4E9F-BD81-A67615DA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8963-F330-459E-8F8F-07F6FC47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CA9D072-40DD-4747-9EAC-E63154C67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160640" y="476280"/>
            <a:ext cx="495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D8AAD-55CC-48C6-8CE6-5DEDE7EB28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02596-C612-46CC-9E7A-0306D08149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55DB9-C8A6-4F45-A35F-06D43EB562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0.jpeg"/><Relationship Id="rId6" Type="http://schemas.openxmlformats.org/officeDocument/2006/relationships/image" Target="../media/image22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0000" y="1331640"/>
            <a:ext cx="9433080" cy="28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On the North Pacific reduced skill in near-term climate predictions of sea surface temper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0" y="4787640"/>
            <a:ext cx="1008072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ginie Gu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With the collaboration o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ancisco Doblas-Reyes, Fabian Lienert, Hui Du, Yves Souff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rcRect l="0" t="0" r="0" b="28585"/>
          <a:stretch/>
        </p:blipFill>
        <p:spPr>
          <a:xfrm>
            <a:off x="6769080" y="4572000"/>
            <a:ext cx="3311640" cy="259092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rcRect l="0" t="0" r="0" b="28585"/>
          <a:stretch/>
        </p:blipFill>
        <p:spPr>
          <a:xfrm>
            <a:off x="3529080" y="4573440"/>
            <a:ext cx="3311280" cy="25909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rcRect l="0" t="0" r="0" b="28585"/>
          <a:stretch/>
        </p:blipFill>
        <p:spPr>
          <a:xfrm>
            <a:off x="216000" y="4573440"/>
            <a:ext cx="3311280" cy="25909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4"/>
          <a:srcRect l="0" t="0" r="0" b="28585"/>
          <a:stretch/>
        </p:blipFill>
        <p:spPr>
          <a:xfrm>
            <a:off x="6769080" y="2125800"/>
            <a:ext cx="3311640" cy="25905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5"/>
          <a:srcRect l="0" t="0" r="0" b="28585"/>
          <a:stretch/>
        </p:blipFill>
        <p:spPr>
          <a:xfrm>
            <a:off x="3529080" y="2125800"/>
            <a:ext cx="3311280" cy="25905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6"/>
          <a:srcRect l="0" t="0" r="0" b="28585"/>
          <a:stretch/>
        </p:blipFill>
        <p:spPr>
          <a:xfrm>
            <a:off x="216000" y="2125800"/>
            <a:ext cx="3311280" cy="25905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87280" y="224964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F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527280" y="224964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K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40360" y="2249640"/>
            <a:ext cx="309564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M-GEO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16000" y="4716360"/>
            <a:ext cx="3240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27280" y="471636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PreS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12000" y="4770360"/>
            <a:ext cx="3024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-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88416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m atmospheric temperature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16000" y="1619280"/>
            <a:ext cx="9720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lation modelled and ERA40 T2M. Leadtimes : 2-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7"/>
          <a:srcRect l="0" t="77355" r="0" b="15285"/>
          <a:stretch/>
        </p:blipFill>
        <p:spPr>
          <a:xfrm>
            <a:off x="2282760" y="7164360"/>
            <a:ext cx="5997600" cy="360360"/>
          </a:xfrm>
          <a:prstGeom prst="rect">
            <a:avLst/>
          </a:prstGeom>
          <a:ln w="0">
            <a:noFill/>
          </a:ln>
        </p:spPr>
      </p:pic>
      <p:grpSp>
        <p:nvGrpSpPr>
          <p:cNvPr id="516" name=""/>
          <p:cNvGrpSpPr/>
          <p:nvPr/>
        </p:nvGrpSpPr>
        <p:grpSpPr>
          <a:xfrm>
            <a:off x="1584360" y="3059280"/>
            <a:ext cx="7270560" cy="2881080"/>
            <a:chOff x="1584360" y="3059280"/>
            <a:chExt cx="7270560" cy="2881080"/>
          </a:xfrm>
        </p:grpSpPr>
        <p:sp>
          <p:nvSpPr>
            <p:cNvPr id="517" name=""/>
            <p:cNvSpPr/>
            <p:nvPr/>
          </p:nvSpPr>
          <p:spPr>
            <a:xfrm>
              <a:off x="1584360" y="3060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97440" y="305928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136000" y="3059280"/>
              <a:ext cx="71892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84360" y="5508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97440" y="5508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136000" y="5508720"/>
              <a:ext cx="71892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rcRect l="0" t="0" r="0" b="28585"/>
          <a:stretch/>
        </p:blipFill>
        <p:spPr>
          <a:xfrm>
            <a:off x="6769080" y="4572000"/>
            <a:ext cx="3311640" cy="2592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rcRect l="0" t="0" r="0" b="28585"/>
          <a:stretch/>
        </p:blipFill>
        <p:spPr>
          <a:xfrm>
            <a:off x="3568680" y="4572000"/>
            <a:ext cx="3271680" cy="25909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rcRect l="0" t="0" r="0" b="28585"/>
          <a:stretch/>
        </p:blipFill>
        <p:spPr>
          <a:xfrm>
            <a:off x="216000" y="4572000"/>
            <a:ext cx="3309840" cy="259236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rcRect l="0" t="0" r="0" b="28585"/>
          <a:stretch/>
        </p:blipFill>
        <p:spPr>
          <a:xfrm>
            <a:off x="3562200" y="2104920"/>
            <a:ext cx="3275280" cy="26337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5"/>
          <a:srcRect l="0" t="0" r="0" b="28585"/>
          <a:stretch/>
        </p:blipFill>
        <p:spPr>
          <a:xfrm>
            <a:off x="6769080" y="2124000"/>
            <a:ext cx="3311640" cy="25909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6"/>
          <a:srcRect l="0" t="0" r="0" b="28585"/>
          <a:stretch/>
        </p:blipFill>
        <p:spPr>
          <a:xfrm>
            <a:off x="216000" y="2124000"/>
            <a:ext cx="3311280" cy="25923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87280" y="224964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F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527280" y="224964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K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40360" y="2249640"/>
            <a:ext cx="309564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M-GEO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16000" y="4716360"/>
            <a:ext cx="3240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27280" y="471636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PreS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12000" y="4770360"/>
            <a:ext cx="3024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-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16000" y="1619280"/>
            <a:ext cx="9720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lation modelled and ERSST SST. Leadtimes : 2-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7"/>
          <a:srcRect l="0" t="77355" r="0" b="15285"/>
          <a:stretch/>
        </p:blipFill>
        <p:spPr>
          <a:xfrm>
            <a:off x="2282760" y="7164360"/>
            <a:ext cx="5997600" cy="36036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0" y="88416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Sea Surface Temperature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584360" y="3059280"/>
            <a:ext cx="7270560" cy="2881080"/>
            <a:chOff x="1584360" y="3059280"/>
            <a:chExt cx="7270560" cy="2881080"/>
          </a:xfrm>
        </p:grpSpPr>
        <p:sp>
          <p:nvSpPr>
            <p:cNvPr id="539" name=""/>
            <p:cNvSpPr/>
            <p:nvPr/>
          </p:nvSpPr>
          <p:spPr>
            <a:xfrm>
              <a:off x="1584360" y="3060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97440" y="305928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136000" y="3059280"/>
              <a:ext cx="71892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84360" y="5508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97440" y="5508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136000" y="5508720"/>
              <a:ext cx="71892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368360" y="162252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216000" y="1795320"/>
            <a:ext cx="9720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lation between multi-model ensemble-mean and ERSST S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88416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Sea Surface Temperature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64000" y="3203640"/>
            <a:ext cx="1655640" cy="64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rcRect l="1685" t="0" r="0" b="2382"/>
          <a:stretch/>
        </p:blipFill>
        <p:spPr>
          <a:xfrm>
            <a:off x="6707160" y="5151600"/>
            <a:ext cx="3373560" cy="240336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"/>
          <a:srcRect l="1685" t="0" r="0" b="2382"/>
          <a:stretch/>
        </p:blipFill>
        <p:spPr>
          <a:xfrm>
            <a:off x="3395520" y="5149800"/>
            <a:ext cx="3373560" cy="240516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3"/>
          <a:srcRect l="0" t="0" r="0" b="2382"/>
          <a:stretch/>
        </p:blipFill>
        <p:spPr>
          <a:xfrm>
            <a:off x="69840" y="5148360"/>
            <a:ext cx="3456000" cy="23572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4"/>
          <a:srcRect l="0" t="0" r="1685" b="2382"/>
          <a:stretch/>
        </p:blipFill>
        <p:spPr>
          <a:xfrm>
            <a:off x="6624720" y="2484360"/>
            <a:ext cx="3397320" cy="23860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5"/>
          <a:srcRect l="0" t="0" r="1685" b="2382"/>
          <a:stretch/>
        </p:blipFill>
        <p:spPr>
          <a:xfrm>
            <a:off x="3378240" y="2484360"/>
            <a:ext cx="3390840" cy="23796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6"/>
          <a:srcRect l="0" t="0" r="1685" b="0"/>
          <a:stretch/>
        </p:blipFill>
        <p:spPr>
          <a:xfrm>
            <a:off x="0" y="2484360"/>
            <a:ext cx="3462480" cy="24922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719280" y="224964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F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032360" y="224964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K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272360" y="224964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M-GEO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19280" y="491508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960720" y="491508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PreS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345440" y="491508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-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88416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Which major events are misse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16000" y="1619280"/>
            <a:ext cx="9720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ea Surface Temperature anomalies (155°E-235°E, 10°N-45°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87280" y="3132000"/>
            <a:ext cx="7345440" cy="3672000"/>
            <a:chOff x="287280" y="3132000"/>
            <a:chExt cx="7345440" cy="3672000"/>
          </a:xfrm>
        </p:grpSpPr>
        <p:sp>
          <p:nvSpPr>
            <p:cNvPr id="564" name=""/>
            <p:cNvSpPr/>
            <p:nvPr/>
          </p:nvSpPr>
          <p:spPr>
            <a:xfrm>
              <a:off x="287280" y="3132000"/>
              <a:ext cx="720720" cy="1008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672000" y="3132000"/>
              <a:ext cx="720720" cy="1008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12000" y="3132000"/>
              <a:ext cx="720720" cy="1008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8920" y="5796000"/>
              <a:ext cx="720720" cy="1008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00360" y="5796000"/>
              <a:ext cx="720720" cy="1008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12000" y="5796000"/>
              <a:ext cx="720720" cy="1008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4360" y="2266920"/>
            <a:ext cx="993636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inks with well-known variability mod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3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8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ssible cause for the failure of forecas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4360" y="2266920"/>
            <a:ext cx="993636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Arial"/>
              </a:rPr>
              <a:t>Links with well-known variability mod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3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8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ssible cause for the failure of forecas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74520" y="3692520"/>
            <a:ext cx="5110200" cy="361620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rcRect l="0" t="0" r="0" b="1429"/>
          <a:stretch/>
        </p:blipFill>
        <p:spPr>
          <a:xfrm>
            <a:off x="5041800" y="3692520"/>
            <a:ext cx="5038920" cy="361620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6796080" y="950760"/>
            <a:ext cx="3284640" cy="23241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287280" y="1047600"/>
            <a:ext cx="6192720" cy="18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wo major warmings in the North Pacific Ocean in 1963 and 1968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616720" y="5940360"/>
            <a:ext cx="1944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 Silva et al. (1994) turbul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201080" y="6156360"/>
            <a:ext cx="576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80000" y="3997440"/>
            <a:ext cx="1729080" cy="66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 Silva et al. (1994)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416720" y="464508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496360" y="5925960"/>
            <a:ext cx="136836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AFluxes turbul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9072720" y="5437080"/>
            <a:ext cx="21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384720" y="6013440"/>
            <a:ext cx="1439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RS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7280" y="3132000"/>
            <a:ext cx="496908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a Surface Temperature  anomalies (155-235°E 10-45°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184720" y="3132000"/>
            <a:ext cx="4896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pward surface heat fluxes anomalies         (155-235°E 10-45°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848720" y="1835280"/>
            <a:ext cx="143964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55-235°E   10-45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971640"/>
            <a:ext cx="9864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No links with the main modes of vari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82520" y="1619280"/>
            <a:ext cx="4498920" cy="318456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5148360" y="1619280"/>
            <a:ext cx="4500360" cy="31845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3"/>
          <a:srcRect l="0" t="0" r="0" b="9528"/>
          <a:stretch/>
        </p:blipFill>
        <p:spPr>
          <a:xfrm>
            <a:off x="2882880" y="4532400"/>
            <a:ext cx="4102200" cy="284796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7201080" y="5580000"/>
            <a:ext cx="252072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srl.noaa.gov/psd/data/climateindic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19280" y="4932360"/>
            <a:ext cx="1512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nthly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655640" y="3492360"/>
            <a:ext cx="36036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3280" y="6516720"/>
            <a:ext cx="208764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2-month running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2232000" y="6011640"/>
            <a:ext cx="1295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44360" y="2266920"/>
            <a:ext cx="993636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inks with well-known variability mod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Arial"/>
              </a:rPr>
              <a:t>Mechanism explaining the 1963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8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ssible cause for the failure of forecas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5688000" y="2700360"/>
            <a:ext cx="3673440" cy="485928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73080" y="2532240"/>
            <a:ext cx="5327640" cy="376848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0" y="111600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3: 3-dimensional structure of the anom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6360" y="2195640"/>
            <a:ext cx="3671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ttern of ERSST anomalies (155-235°E 10-45°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616720" y="2116080"/>
            <a:ext cx="4464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MOVAR temperature anomaly profile (180-205°E – 35-45°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392720" y="2556000"/>
            <a:ext cx="718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335640" y="3419640"/>
            <a:ext cx="2174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335640" y="356400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6275520" y="3635280"/>
            <a:ext cx="144360" cy="21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727280" y="2987640"/>
            <a:ext cx="129708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04720" y="1657440"/>
            <a:ext cx="6264360" cy="59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Francisco J Doblas-Reyes :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The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Hui Du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Initial perturbations, sea 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Javier Gar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-Serrano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AMO, African mon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Virginie Guemas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Sea ice, North Pacific s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bian Lienert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regionalisation, PDO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elanie Davis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anila Volpi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initialisa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uis Ricardo Rodrigues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ENSO, statistica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ida P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extr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uhammad Asif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EC-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riol Mula-Valls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system admini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mingo Manubens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autosubmit develo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4360" y="4538520"/>
            <a:ext cx="360360" cy="244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44360" y="314496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44360" y="2214720"/>
            <a:ext cx="360360" cy="234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44360" y="3649680"/>
            <a:ext cx="360360" cy="24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44360" y="4078440"/>
            <a:ext cx="360360" cy="225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144360" y="501660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144360" y="177804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8"/>
          <a:stretch/>
        </p:blipFill>
        <p:spPr>
          <a:xfrm>
            <a:off x="144360" y="271296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144360" y="547380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0"/>
          <a:stretch/>
        </p:blipFill>
        <p:spPr>
          <a:xfrm>
            <a:off x="144360" y="645804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1"/>
          <a:stretch/>
        </p:blipFill>
        <p:spPr>
          <a:xfrm>
            <a:off x="144360" y="688968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2"/>
          <a:stretch/>
        </p:blipFill>
        <p:spPr>
          <a:xfrm>
            <a:off x="144360" y="5978520"/>
            <a:ext cx="360360" cy="239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16000" y="971640"/>
            <a:ext cx="9720000" cy="5374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ur focus : Seasonal to decadal prediction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4720" y="1979640"/>
            <a:ext cx="3311280" cy="209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e share, on reques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to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r decadal hind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nthly sea ice re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 diagnostic fun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12000" y="4572000"/>
            <a:ext cx="3024000" cy="251928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e run 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renostrum ( Spai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ECTOR ( Scotlan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ndgren ( Swede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r local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792000" y="1042920"/>
            <a:ext cx="799308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3: advection of the anom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144360" y="2844720"/>
            <a:ext cx="5256360" cy="37195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"/>
          <a:srcRect l="0" t="0" r="2696" b="0"/>
          <a:stretch/>
        </p:blipFill>
        <p:spPr>
          <a:xfrm>
            <a:off x="5184720" y="2916360"/>
            <a:ext cx="4824360" cy="352872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576360" y="2484360"/>
            <a:ext cx="4032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Hoevmuller ERSST anomalies   ( 35°N-45°N latitude b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545080" y="2548080"/>
            <a:ext cx="41752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MOVAR backward trajectories computed with AR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184720" y="6156360"/>
            <a:ext cx="47512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RIANE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 http://stockage.univ-brest.fr/~grima/Ariane/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848720" y="5148360"/>
            <a:ext cx="1726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ril 19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8353440" y="4787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904000" y="5364000"/>
            <a:ext cx="22334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vember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5976720" y="514836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92720" y="2825640"/>
            <a:ext cx="718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863640" y="3564000"/>
            <a:ext cx="1873080" cy="20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104292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3: modulation of the amplitude by mix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144360" y="2844720"/>
            <a:ext cx="5256360" cy="371952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576360" y="2484360"/>
            <a:ext cx="4032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Hoevmuller ERSST anomalies   ( 35°N-45°N latitude b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92720" y="2825640"/>
            <a:ext cx="718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2"/>
          <a:srcRect l="0" t="0" r="5393" b="0"/>
          <a:stretch/>
        </p:blipFill>
        <p:spPr>
          <a:xfrm>
            <a:off x="4968720" y="2843280"/>
            <a:ext cx="5112000" cy="37447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5327640" y="2484360"/>
            <a:ext cx="4680000" cy="66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EMOVAR climatological mixed layer depth ( 35°N-45°N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33080" y="2843280"/>
            <a:ext cx="647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863640" y="3564000"/>
            <a:ext cx="1873080" cy="20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4360" y="2266920"/>
            <a:ext cx="993636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inks with well-known variability mod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3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Arial"/>
              </a:rPr>
              <a:t>Mechanism explaining the 1968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ssible cause for the failure of forecas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5686560" y="2701800"/>
            <a:ext cx="3674880" cy="485784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71280" y="2532240"/>
            <a:ext cx="5326200" cy="376704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0" y="111600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8: 3-dimensional structure of the anom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76360" y="2195640"/>
            <a:ext cx="3671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ttern of ERSST anomalies (155-235°E 10-45°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392720" y="2556000"/>
            <a:ext cx="718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16720" y="2116080"/>
            <a:ext cx="4464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MOVAR temperature anomaly profile (170-235°E – 10-35°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368360" y="3706920"/>
            <a:ext cx="3024360" cy="194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47640" y="1042920"/>
            <a:ext cx="878544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8: upward transfer of the anom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2982960" y="2627280"/>
            <a:ext cx="3674880" cy="485784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2808360" y="2116080"/>
            <a:ext cx="4464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MOVAR temperature anomaly profile (170-235°E – 10-45°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0" y="104292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8: amplification by the atmosphere fo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504720" y="2987640"/>
            <a:ext cx="4248360" cy="300672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008000" y="2411280"/>
            <a:ext cx="338472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ind speed anomalies (170-235°E, 10-35°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009800" y="5075280"/>
            <a:ext cx="1008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FS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1152360" y="4427280"/>
            <a:ext cx="14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673440" y="4932360"/>
            <a:ext cx="936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C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4105440" y="464292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5327640" y="2703600"/>
            <a:ext cx="3675240" cy="485784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5256360" y="2116080"/>
            <a:ext cx="4464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MOVAR temperature anomaly profile (170-235°E – 10-45°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44360" y="2266920"/>
            <a:ext cx="993636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inks with well-known variability mod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3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8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Arial"/>
              </a:rPr>
              <a:t>Possible cause for the failure of forecas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1008000" y="971640"/>
            <a:ext cx="799308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Stratification in the Pacific Oce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rcRect l="0" t="0" r="0" b="7146"/>
          <a:stretch/>
        </p:blipFill>
        <p:spPr>
          <a:xfrm>
            <a:off x="1062000" y="4511520"/>
            <a:ext cx="4321080" cy="304812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rcRect l="0" t="0" r="0" b="7146"/>
          <a:stretch/>
        </p:blipFill>
        <p:spPr>
          <a:xfrm>
            <a:off x="5167440" y="4427640"/>
            <a:ext cx="4076640" cy="310680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rcRect l="0" t="0" r="0" b="7146"/>
          <a:stretch/>
        </p:blipFill>
        <p:spPr>
          <a:xfrm>
            <a:off x="1063800" y="1798560"/>
            <a:ext cx="4319280" cy="30574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4"/>
          <a:srcRect l="0" t="0" r="0" b="7146"/>
          <a:stretch/>
        </p:blipFill>
        <p:spPr>
          <a:xfrm>
            <a:off x="5167440" y="1763640"/>
            <a:ext cx="4103640" cy="305928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 rot="16200000">
            <a:off x="-692280" y="3085920"/>
            <a:ext cx="27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EMOVAR-COM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rot="16200000">
            <a:off x="-692280" y="5823000"/>
            <a:ext cx="27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F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5400000">
            <a:off x="7875720" y="5823000"/>
            <a:ext cx="27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M-GEO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rot="5400000">
            <a:off x="7875720" y="3085920"/>
            <a:ext cx="27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-Earth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57280" y="1692360"/>
            <a:ext cx="70390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MA mixed layer depth (density criteria) in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1640" y="2266920"/>
            <a:ext cx="9433080" cy="46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orth Pacific region = region of lowest skill in near-term climate predictions ( 2- 5 year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jor warm events around 1963 and 1968 missed by every forecasting systems = main cause for the low s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1963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heat anomaly advected along the Kuroshio-Oyashio and confined to an increasingly thinnner mixed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1968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ep heat anomaly transferred toward the surface and then amplified by the atmospheric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iases in the Pacific ocean stratification could be responsible for the failure of the forecas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3280" y="248436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584360" y="4572000"/>
            <a:ext cx="676908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vguemas@ic3.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0000" y="1331640"/>
            <a:ext cx="9433080" cy="28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On the North Pacific reduced skill in near-term climate predictions of sea surface temper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0" y="4787640"/>
            <a:ext cx="1008072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ginie Gu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With the collaboration o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ancisco Doblas-Reyes, Fabian Lienert, Hui Du, Yves Souff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2484360"/>
            <a:ext cx="10080720" cy="3305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16000" y="6281640"/>
            <a:ext cx="7056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g. 2 of Meehl et al. (2009, B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1195560" y="5195880"/>
            <a:ext cx="3420360" cy="344160"/>
            <a:chOff x="1195560" y="5195880"/>
            <a:chExt cx="3420360" cy="344160"/>
          </a:xfrm>
        </p:grpSpPr>
        <p:sp>
          <p:nvSpPr>
            <p:cNvPr id="208" name=""/>
            <p:cNvSpPr/>
            <p:nvPr/>
          </p:nvSpPr>
          <p:spPr>
            <a:xfrm>
              <a:off x="1200240" y="5538600"/>
              <a:ext cx="3410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97000" y="5450040"/>
              <a:ext cx="3411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95560" y="5195880"/>
              <a:ext cx="3411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04920" y="5401440"/>
              <a:ext cx="341100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03120" y="5356800"/>
              <a:ext cx="341100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01680" y="5311080"/>
              <a:ext cx="3411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98440" y="5277960"/>
              <a:ext cx="341100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97000" y="5243400"/>
              <a:ext cx="341100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95560" y="5489280"/>
              <a:ext cx="3411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217520" y="5635800"/>
            <a:ext cx="3420720" cy="343800"/>
            <a:chOff x="1217520" y="5635800"/>
            <a:chExt cx="3420720" cy="343800"/>
          </a:xfrm>
        </p:grpSpPr>
        <p:sp>
          <p:nvSpPr>
            <p:cNvPr id="218" name=""/>
            <p:cNvSpPr/>
            <p:nvPr/>
          </p:nvSpPr>
          <p:spPr>
            <a:xfrm>
              <a:off x="1221840" y="597852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18600" y="588996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17520" y="563580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26880" y="584100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25080" y="579672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23640" y="575100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20400" y="571752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18600" y="568296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17520" y="592920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193760" y="4730760"/>
            <a:ext cx="3420720" cy="344160"/>
            <a:chOff x="1193760" y="4730760"/>
            <a:chExt cx="3420720" cy="344160"/>
          </a:xfrm>
        </p:grpSpPr>
        <p:sp>
          <p:nvSpPr>
            <p:cNvPr id="228" name=""/>
            <p:cNvSpPr/>
            <p:nvPr/>
          </p:nvSpPr>
          <p:spPr>
            <a:xfrm>
              <a:off x="1198080" y="507348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94840" y="498492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93760" y="473076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02760" y="493596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01320" y="4891680"/>
              <a:ext cx="3411720" cy="108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99880" y="4845960"/>
              <a:ext cx="341136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96640" y="481248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94840" y="477792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93760" y="502416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192320" y="4290840"/>
            <a:ext cx="3420720" cy="344160"/>
            <a:chOff x="1192320" y="4290840"/>
            <a:chExt cx="3420720" cy="344160"/>
          </a:xfrm>
        </p:grpSpPr>
        <p:sp>
          <p:nvSpPr>
            <p:cNvPr id="238" name=""/>
            <p:cNvSpPr/>
            <p:nvPr/>
          </p:nvSpPr>
          <p:spPr>
            <a:xfrm>
              <a:off x="1197000" y="463392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93760" y="454536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92320" y="429084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01680" y="449604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00240" y="4451760"/>
              <a:ext cx="341100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98440" y="440604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95200" y="437292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93760" y="433800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92320" y="458460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182600" y="3849840"/>
            <a:ext cx="3420720" cy="343800"/>
            <a:chOff x="1182600" y="3849840"/>
            <a:chExt cx="3420720" cy="343800"/>
          </a:xfrm>
        </p:grpSpPr>
        <p:sp>
          <p:nvSpPr>
            <p:cNvPr id="248" name=""/>
            <p:cNvSpPr/>
            <p:nvPr/>
          </p:nvSpPr>
          <p:spPr>
            <a:xfrm>
              <a:off x="1186920" y="419256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83680" y="410400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82600" y="384984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91600" y="405504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90160" y="401076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88720" y="396504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85480" y="3931560"/>
              <a:ext cx="3411720" cy="144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83680" y="389700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82600" y="414324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170000" y="3421080"/>
            <a:ext cx="3420720" cy="344160"/>
            <a:chOff x="1170000" y="3421080"/>
            <a:chExt cx="3420720" cy="344160"/>
          </a:xfrm>
        </p:grpSpPr>
        <p:sp>
          <p:nvSpPr>
            <p:cNvPr id="258" name=""/>
            <p:cNvSpPr/>
            <p:nvPr/>
          </p:nvSpPr>
          <p:spPr>
            <a:xfrm>
              <a:off x="1174320" y="3764160"/>
              <a:ext cx="3411720" cy="108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71080" y="3675600"/>
              <a:ext cx="341172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70000" y="3421080"/>
              <a:ext cx="341172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79000" y="3626280"/>
              <a:ext cx="341172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77560" y="3582360"/>
              <a:ext cx="3411720" cy="108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75760" y="3536280"/>
              <a:ext cx="3411720" cy="108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72880" y="3503160"/>
              <a:ext cx="341136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71080" y="3468240"/>
              <a:ext cx="341172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70000" y="3714840"/>
              <a:ext cx="341172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961920" y="6383160"/>
            <a:ext cx="85917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1160" y="64785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Nov 60               Nov 65            Nov 70               Nov 75           Nov 80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193760" y="6230520"/>
            <a:ext cx="18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970360" y="621792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618080" y="622728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407280" y="622584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8053560" y="623376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82520" y="3360600"/>
            <a:ext cx="214560" cy="268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920" y="1892160"/>
            <a:ext cx="97581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 algn="ctr">
              <a:lnSpc>
                <a:spcPct val="135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model ensemble system with coupled initialized G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4440" y="2660760"/>
            <a:ext cx="9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df103"/>
                </a:solidFill>
                <a:latin typeface="Verdana"/>
              </a:rPr>
              <a:t>Model 1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Model 2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odel 3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Model 4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80d5e6"/>
                </a:solidFill>
                <a:latin typeface="Verdana"/>
              </a:rPr>
              <a:t>Model 5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e472"/>
                </a:solidFill>
                <a:latin typeface="Verdana"/>
              </a:rPr>
              <a:t>Model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41600" y="7077240"/>
            <a:ext cx="2025720" cy="43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adtime =     1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532320" y="6875640"/>
            <a:ext cx="107604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52360" y="3274920"/>
            <a:ext cx="842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496360" y="2681280"/>
            <a:ext cx="863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77920" y="1892160"/>
            <a:ext cx="97581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 algn="ctr">
              <a:lnSpc>
                <a:spcPct val="135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model ensemble system with coupled initialized G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4440" y="2660760"/>
            <a:ext cx="9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df103"/>
                </a:solidFill>
                <a:latin typeface="Verdana"/>
              </a:rPr>
              <a:t>Model 1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Model 2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odel 3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Model 4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80d5e6"/>
                </a:solidFill>
                <a:latin typeface="Verdana"/>
              </a:rPr>
              <a:t>Model 5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e472"/>
                </a:solidFill>
                <a:latin typeface="Verdana"/>
              </a:rPr>
              <a:t>Model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61920" y="6383160"/>
            <a:ext cx="85917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193760" y="6230520"/>
            <a:ext cx="18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970360" y="621792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618080" y="622728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407280" y="622584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053560" y="623376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016080" y="5694480"/>
            <a:ext cx="3420720" cy="344160"/>
            <a:chOff x="3016080" y="5694480"/>
            <a:chExt cx="3420720" cy="344160"/>
          </a:xfrm>
        </p:grpSpPr>
        <p:sp>
          <p:nvSpPr>
            <p:cNvPr id="291" name=""/>
            <p:cNvSpPr/>
            <p:nvPr/>
          </p:nvSpPr>
          <p:spPr>
            <a:xfrm>
              <a:off x="3020400" y="60375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7520" y="5949000"/>
              <a:ext cx="341100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16080" y="56944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25440" y="58996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23640" y="58557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22200" y="58096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18960" y="57765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17520" y="5741640"/>
              <a:ext cx="341100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16080" y="598824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879640" y="3419640"/>
            <a:ext cx="3534840" cy="2685960"/>
            <a:chOff x="2879640" y="3419640"/>
            <a:chExt cx="3534840" cy="2685960"/>
          </a:xfrm>
        </p:grpSpPr>
        <p:grpSp>
          <p:nvGrpSpPr>
            <p:cNvPr id="301" name=""/>
            <p:cNvGrpSpPr/>
            <p:nvPr/>
          </p:nvGrpSpPr>
          <p:grpSpPr>
            <a:xfrm>
              <a:off x="2993760" y="5253480"/>
              <a:ext cx="3420720" cy="343800"/>
              <a:chOff x="2993760" y="5253480"/>
              <a:chExt cx="3420720" cy="343800"/>
            </a:xfrm>
          </p:grpSpPr>
          <p:sp>
            <p:nvSpPr>
              <p:cNvPr id="302" name=""/>
              <p:cNvSpPr/>
              <p:nvPr/>
            </p:nvSpPr>
            <p:spPr>
              <a:xfrm>
                <a:off x="2998440" y="559584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95200" y="550728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993760" y="525348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003120" y="545868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01320" y="541440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99880" y="536832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96640" y="533556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95200" y="530100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93760" y="554652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990880" y="4788360"/>
              <a:ext cx="3422160" cy="343800"/>
              <a:chOff x="2990880" y="4788360"/>
              <a:chExt cx="3422160" cy="343800"/>
            </a:xfrm>
          </p:grpSpPr>
          <p:sp>
            <p:nvSpPr>
              <p:cNvPr id="312" name=""/>
              <p:cNvSpPr/>
              <p:nvPr/>
            </p:nvSpPr>
            <p:spPr>
              <a:xfrm>
                <a:off x="2995200" y="513072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91960" y="504216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90880" y="478836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99880" y="499320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98440" y="4949280"/>
                <a:ext cx="3413160" cy="108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96640" y="4903200"/>
                <a:ext cx="341352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93400" y="4870080"/>
                <a:ext cx="341352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1960" y="483552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990880" y="508140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2989080" y="4349160"/>
              <a:ext cx="3422520" cy="343800"/>
              <a:chOff x="2989080" y="4349160"/>
              <a:chExt cx="3422520" cy="343800"/>
            </a:xfrm>
          </p:grpSpPr>
          <p:sp>
            <p:nvSpPr>
              <p:cNvPr id="322" name=""/>
              <p:cNvSpPr/>
              <p:nvPr/>
            </p:nvSpPr>
            <p:spPr>
              <a:xfrm>
                <a:off x="2993400" y="469188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990520" y="460332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89080" y="434916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998440" y="455436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996640" y="4509720"/>
                <a:ext cx="3413520" cy="14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995200" y="446436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91960" y="443088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90520" y="439632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89080" y="464256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2979720" y="3908160"/>
              <a:ext cx="3420720" cy="343800"/>
              <a:chOff x="2979720" y="3908160"/>
              <a:chExt cx="3420720" cy="343800"/>
            </a:xfrm>
          </p:grpSpPr>
          <p:sp>
            <p:nvSpPr>
              <p:cNvPr id="332" name=""/>
              <p:cNvSpPr/>
              <p:nvPr/>
            </p:nvSpPr>
            <p:spPr>
              <a:xfrm>
                <a:off x="2984040" y="425088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80800" y="416232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79720" y="39081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88720" y="41133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87280" y="406908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85480" y="40233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82600" y="3989880"/>
                <a:ext cx="3411360" cy="144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80800" y="395532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79720" y="42015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966760" y="3479400"/>
              <a:ext cx="3423960" cy="343800"/>
              <a:chOff x="2966760" y="3479400"/>
              <a:chExt cx="3423960" cy="343800"/>
            </a:xfrm>
          </p:grpSpPr>
          <p:sp>
            <p:nvSpPr>
              <p:cNvPr id="342" name=""/>
              <p:cNvSpPr/>
              <p:nvPr/>
            </p:nvSpPr>
            <p:spPr>
              <a:xfrm>
                <a:off x="2971440" y="3822120"/>
                <a:ext cx="34128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68200" y="3733560"/>
                <a:ext cx="34128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66760" y="347940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76120" y="3684600"/>
                <a:ext cx="34146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74680" y="3640320"/>
                <a:ext cx="34128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72880" y="3594600"/>
                <a:ext cx="34146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69640" y="356112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68200" y="3526560"/>
                <a:ext cx="34128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66760" y="377280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2879640" y="3419640"/>
              <a:ext cx="214200" cy="268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41160" y="64785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Nov 60               Nov 65            Nov 70               Nov 75           Nov 80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52360" y="3274920"/>
            <a:ext cx="842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496360" y="2681280"/>
            <a:ext cx="863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41600" y="7077240"/>
            <a:ext cx="2025720" cy="43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adtime =      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532320" y="6875640"/>
            <a:ext cx="107604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61920" y="6383160"/>
            <a:ext cx="85917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193760" y="6230520"/>
            <a:ext cx="18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970360" y="621792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618080" y="622728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407280" y="622584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8053560" y="623376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4440" y="2660760"/>
            <a:ext cx="9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df103"/>
                </a:solidFill>
                <a:latin typeface="Verdana"/>
              </a:rPr>
              <a:t>Model 1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Model 2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odel 3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Model 4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80d5e6"/>
                </a:solidFill>
                <a:latin typeface="Verdana"/>
              </a:rPr>
              <a:t>Model 5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e472"/>
                </a:solidFill>
                <a:latin typeface="Verdana"/>
              </a:rPr>
              <a:t>Model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41600" y="7004160"/>
            <a:ext cx="2025720" cy="43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adtime =       2-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527280" y="6156360"/>
            <a:ext cx="50508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016080" y="5694480"/>
            <a:ext cx="3420720" cy="344160"/>
            <a:chOff x="3016080" y="5694480"/>
            <a:chExt cx="3420720" cy="344160"/>
          </a:xfrm>
        </p:grpSpPr>
        <p:sp>
          <p:nvSpPr>
            <p:cNvPr id="368" name=""/>
            <p:cNvSpPr/>
            <p:nvPr/>
          </p:nvSpPr>
          <p:spPr>
            <a:xfrm>
              <a:off x="3020400" y="60375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17520" y="5949000"/>
              <a:ext cx="341100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16080" y="56944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25440" y="58996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23640" y="58557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22200" y="58096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18960" y="57765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17520" y="5741640"/>
              <a:ext cx="341100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16080" y="598824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879640" y="3419640"/>
            <a:ext cx="3534840" cy="2685960"/>
            <a:chOff x="2879640" y="3419640"/>
            <a:chExt cx="3534840" cy="2685960"/>
          </a:xfrm>
        </p:grpSpPr>
        <p:grpSp>
          <p:nvGrpSpPr>
            <p:cNvPr id="378" name=""/>
            <p:cNvGrpSpPr/>
            <p:nvPr/>
          </p:nvGrpSpPr>
          <p:grpSpPr>
            <a:xfrm>
              <a:off x="2993760" y="5253480"/>
              <a:ext cx="3420720" cy="343800"/>
              <a:chOff x="2993760" y="5253480"/>
              <a:chExt cx="3420720" cy="343800"/>
            </a:xfrm>
          </p:grpSpPr>
          <p:sp>
            <p:nvSpPr>
              <p:cNvPr id="379" name=""/>
              <p:cNvSpPr/>
              <p:nvPr/>
            </p:nvSpPr>
            <p:spPr>
              <a:xfrm>
                <a:off x="2998440" y="559584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95200" y="550728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93760" y="525348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003120" y="545868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001320" y="541440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99880" y="536832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96640" y="533556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95200" y="530100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93760" y="554652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2990880" y="4788360"/>
              <a:ext cx="3422160" cy="343800"/>
              <a:chOff x="2990880" y="4788360"/>
              <a:chExt cx="3422160" cy="343800"/>
            </a:xfrm>
          </p:grpSpPr>
          <p:sp>
            <p:nvSpPr>
              <p:cNvPr id="389" name=""/>
              <p:cNvSpPr/>
              <p:nvPr/>
            </p:nvSpPr>
            <p:spPr>
              <a:xfrm>
                <a:off x="2995200" y="513072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91960" y="504216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990880" y="478836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999880" y="499320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998440" y="4949280"/>
                <a:ext cx="3413160" cy="108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996640" y="4903200"/>
                <a:ext cx="341352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993400" y="4870080"/>
                <a:ext cx="341352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991960" y="483552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990880" y="508140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2989080" y="4349160"/>
              <a:ext cx="3422520" cy="343800"/>
              <a:chOff x="2989080" y="4349160"/>
              <a:chExt cx="3422520" cy="343800"/>
            </a:xfrm>
          </p:grpSpPr>
          <p:sp>
            <p:nvSpPr>
              <p:cNvPr id="399" name=""/>
              <p:cNvSpPr/>
              <p:nvPr/>
            </p:nvSpPr>
            <p:spPr>
              <a:xfrm>
                <a:off x="2993400" y="469188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990520" y="460332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989080" y="434916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998440" y="455436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96640" y="4509720"/>
                <a:ext cx="3413520" cy="14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995200" y="446436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991960" y="443088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990520" y="439632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989080" y="464256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979720" y="3908160"/>
              <a:ext cx="3420720" cy="343800"/>
              <a:chOff x="2979720" y="3908160"/>
              <a:chExt cx="3420720" cy="343800"/>
            </a:xfrm>
          </p:grpSpPr>
          <p:sp>
            <p:nvSpPr>
              <p:cNvPr id="409" name=""/>
              <p:cNvSpPr/>
              <p:nvPr/>
            </p:nvSpPr>
            <p:spPr>
              <a:xfrm>
                <a:off x="2984040" y="425088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980800" y="416232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79720" y="39081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988720" y="41133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987280" y="406908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985480" y="40233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982600" y="3989880"/>
                <a:ext cx="3411360" cy="144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980800" y="395532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979720" y="42015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966760" y="3479400"/>
              <a:ext cx="3423960" cy="343800"/>
              <a:chOff x="2966760" y="3479400"/>
              <a:chExt cx="3423960" cy="343800"/>
            </a:xfrm>
          </p:grpSpPr>
          <p:sp>
            <p:nvSpPr>
              <p:cNvPr id="419" name=""/>
              <p:cNvSpPr/>
              <p:nvPr/>
            </p:nvSpPr>
            <p:spPr>
              <a:xfrm>
                <a:off x="2971440" y="3822120"/>
                <a:ext cx="34128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68200" y="3733560"/>
                <a:ext cx="34128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966760" y="347940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976120" y="3684600"/>
                <a:ext cx="34146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974680" y="3640320"/>
                <a:ext cx="34128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972880" y="3594600"/>
                <a:ext cx="34146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969640" y="356112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968200" y="3526560"/>
                <a:ext cx="34128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966760" y="377280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2879640" y="3419640"/>
              <a:ext cx="214200" cy="268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8496360" y="2681280"/>
            <a:ext cx="863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52360" y="3274920"/>
            <a:ext cx="842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27280" y="3132000"/>
            <a:ext cx="1152720" cy="297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7920" y="1892160"/>
            <a:ext cx="97581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 algn="ctr">
              <a:lnSpc>
                <a:spcPct val="135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model ensemble system with coupled initialized G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41160" y="64785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Nov 60               Nov 65            Nov 70               Nov 75           Nov 80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961920" y="6383160"/>
            <a:ext cx="85917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1193760" y="6230520"/>
            <a:ext cx="18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970360" y="621792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618080" y="622728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407280" y="622584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8053560" y="623376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44440" y="2660760"/>
            <a:ext cx="9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df103"/>
                </a:solidFill>
                <a:latin typeface="Verdana"/>
              </a:rPr>
              <a:t>Model 1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Model 2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odel 3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Model 4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80d5e6"/>
                </a:solidFill>
                <a:latin typeface="Verdana"/>
              </a:rPr>
              <a:t>Model 5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e472"/>
                </a:solidFill>
                <a:latin typeface="Verdana"/>
              </a:rPr>
              <a:t>Model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41600" y="7004160"/>
            <a:ext cx="2025720" cy="43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adtime =       2-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496360" y="2681280"/>
            <a:ext cx="863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77920" y="1892160"/>
            <a:ext cx="97581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 algn="ctr">
              <a:lnSpc>
                <a:spcPct val="135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model ensemble system with coupled initialized G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41160" y="64785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Nov 60               Nov 65            Nov 70               Nov 75           Nov 80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032360" y="4881600"/>
            <a:ext cx="14436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032360" y="5315040"/>
            <a:ext cx="1443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032360" y="574524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032360" y="4449600"/>
            <a:ext cx="14436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032360" y="4016520"/>
            <a:ext cx="144360" cy="142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032360" y="3584520"/>
            <a:ext cx="14436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032360" y="3203640"/>
            <a:ext cx="14436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961920" y="6383160"/>
            <a:ext cx="85917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1193760" y="6230520"/>
            <a:ext cx="18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970360" y="621792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618080" y="622728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6407280" y="622584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8053560" y="623376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4440" y="2660760"/>
            <a:ext cx="9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df103"/>
                </a:solidFill>
                <a:latin typeface="Verdana"/>
              </a:rPr>
              <a:t>Model 1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Model 2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odel 3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Model 4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80d5e6"/>
                </a:solidFill>
                <a:latin typeface="Verdana"/>
              </a:rPr>
              <a:t>Model 5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e472"/>
                </a:solidFill>
                <a:latin typeface="Verdana"/>
              </a:rPr>
              <a:t>Model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41600" y="7004160"/>
            <a:ext cx="2025720" cy="43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adtime =       2-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496360" y="2681280"/>
            <a:ext cx="863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7920" y="1892160"/>
            <a:ext cx="97581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 algn="ctr">
              <a:lnSpc>
                <a:spcPct val="135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model ensemble system with coupled initialized G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1160" y="64785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Nov 60               Nov 65            Nov 70               Nov 75           Nov 80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32360" y="4881600"/>
            <a:ext cx="14436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032360" y="5315040"/>
            <a:ext cx="1443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032360" y="574524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032360" y="4449600"/>
            <a:ext cx="14436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032360" y="4016520"/>
            <a:ext cx="144360" cy="142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032360" y="3584520"/>
            <a:ext cx="14436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032360" y="3203640"/>
            <a:ext cx="14436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303640" y="4883040"/>
            <a:ext cx="14436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03640" y="5316480"/>
            <a:ext cx="1443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303640" y="574668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303640" y="4451400"/>
            <a:ext cx="14436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303640" y="4017960"/>
            <a:ext cx="144360" cy="1429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03640" y="3586320"/>
            <a:ext cx="144360" cy="142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03640" y="3205080"/>
            <a:ext cx="14436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59280" y="4881600"/>
            <a:ext cx="14472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759280" y="5315040"/>
            <a:ext cx="14472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759280" y="5745240"/>
            <a:ext cx="14472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59280" y="4449600"/>
            <a:ext cx="14472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59280" y="4016520"/>
            <a:ext cx="144720" cy="142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59280" y="3584520"/>
            <a:ext cx="1447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9280" y="3203640"/>
            <a:ext cx="14472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416720" y="4881600"/>
            <a:ext cx="14472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16720" y="5315040"/>
            <a:ext cx="14472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416720" y="5745240"/>
            <a:ext cx="14472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416720" y="4449600"/>
            <a:ext cx="14472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416720" y="4016520"/>
            <a:ext cx="144720" cy="142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416720" y="3584520"/>
            <a:ext cx="1447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416720" y="3203640"/>
            <a:ext cx="14472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9072720" y="4881600"/>
            <a:ext cx="14436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9072720" y="5315040"/>
            <a:ext cx="1443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72720" y="574524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072720" y="4449600"/>
            <a:ext cx="14436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072720" y="4016520"/>
            <a:ext cx="144360" cy="142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072720" y="3584520"/>
            <a:ext cx="14436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9072720" y="3203640"/>
            <a:ext cx="14436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ice</dc:creator>
  <dc:description/>
  <dc:language>en-US</dc:language>
  <cp:lastModifiedBy>vguemas</cp:lastModifiedBy>
  <dcterms:modified xsi:type="dcterms:W3CDTF">2012-01-08T21:59:42Z</dcterms:modified>
  <cp:revision>157</cp:revision>
  <dc:subject/>
  <dc:title>Diapositiva 1</dc:title>
</cp:coreProperties>
</file>